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70993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0" y="0"/>
            <a:ext cx="7099200" cy="939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dt" idx="34"/>
          </p:nvPr>
        </p:nvSpPr>
        <p:spPr>
          <a:xfrm>
            <a:off x="4022640" y="-36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sldImg"/>
          </p:nvPr>
        </p:nvSpPr>
        <p:spPr>
          <a:xfrm>
            <a:off x="1199880" y="704880"/>
            <a:ext cx="4699080" cy="352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body"/>
          </p:nvPr>
        </p:nvSpPr>
        <p:spPr>
          <a:xfrm>
            <a:off x="946080" y="4464000"/>
            <a:ext cx="5207040" cy="42292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ftr" idx="35"/>
          </p:nvPr>
        </p:nvSpPr>
        <p:spPr>
          <a:xfrm>
            <a:off x="0" y="8928000"/>
            <a:ext cx="3076560" cy="4701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 type="sldNum" idx="36"/>
          </p:nvPr>
        </p:nvSpPr>
        <p:spPr>
          <a:xfrm>
            <a:off x="4022640" y="8928000"/>
            <a:ext cx="3076560" cy="4701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F5F9006-0F3C-4B4D-B37F-E18E25B1D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4022640" y="8928000"/>
            <a:ext cx="30765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023320E-23EE-49A9-9527-5094FE6BD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578" name="Slide Number Placeholder 3"/>
          <p:cNvSpPr/>
          <p:nvPr/>
        </p:nvSpPr>
        <p:spPr>
          <a:xfrm>
            <a:off x="4022640" y="8928000"/>
            <a:ext cx="30765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6565196-F518-4D13-AB07-16DAC5142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4022640" y="8928000"/>
            <a:ext cx="30765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C5870DD-35C3-4DEE-BA77-C877E7EFA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46080" y="4464000"/>
            <a:ext cx="520704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4022640" y="8928000"/>
            <a:ext cx="30765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8C5FC83-01D8-45B9-B58E-D4E155802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8B56-01D9-411A-8B17-E3C8FDBC9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0F94-C7C8-40F9-B58A-A642913E4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3D974A-6CA9-4976-A321-4D5A3C5A6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46B700-92F8-403F-9D63-3A7A08B0A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E64920-1B21-4F86-B1DE-0BE138D0A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BC26EB-059C-4BBA-8806-BFFBA07E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3BD633-F987-4597-9DE7-CDE34C5C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C558FA-E43C-4458-BF90-E58F372A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55835C-A5FB-4254-A42F-B80D4CAEB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1F3DEE-6126-465D-A27C-01DF8E2FB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C9C89D-6F06-44C3-9C1E-2D941044D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AED5B4-DDB9-4713-A835-8BFF467E1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E473-0A7C-42DD-8AF1-5985AE609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3EE80D-4E35-45AD-B7ED-7B90CBB11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1C87B5-E286-4E65-A6F7-3719E6F3D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26C996-9350-4EB0-842E-7632CA626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DE81CD-32BC-46B8-85ED-CFC4AA2B0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54CDCD-C5D2-49FB-BBD0-36C37DC30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5962EE-2ACE-4A77-9BE1-477CB6E2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4D57C6-9A9E-46C5-BC0D-2E09CEFF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DCAC93-47D5-40D5-A412-6193DF1B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5F8136-DF07-4BF2-817C-929D2BDEF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0A5EB1-5B37-4B12-A571-F288AC259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05C9-C7D4-4EC9-89A4-E11E359BB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F02BA0-8838-47E7-A5DB-CEFDAB54C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DB58FA3-EF33-420B-911D-5EBE8FD9E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7A5C1F3-04EE-434E-B55C-B92E7BC02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8442080-21B3-4A5A-90F2-0D28F3E7E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AFA94EA-D2DA-45D0-9375-190212FDC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95D3A01-7A8D-4F0E-A866-F4F281EA4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F79FE10-C6EC-4AF1-BC4B-0ED72FC89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F9E2306-D3A2-4F9A-964F-4C148D2D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E6924AB-F610-4F23-A312-A3D46DED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7628ACA-5357-4D89-8F2E-E1592828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6D576-AC9C-42C4-9BAC-4A87A1828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DA4B81C-EC9B-458F-879A-4EED6F76A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7843E54-56AA-4564-B566-13773C97E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20AC1EC-844B-49B3-A798-AEA1F36E2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592E8-2883-4FD3-86AF-2959ED980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7E317-528A-45E2-A74F-1E3354FCE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79710-F205-4C09-B8E2-4133AFFAA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D6E8E-CDD9-43C4-B319-645667F9C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E8E1A-4B33-4907-8613-9120FC892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2E14D-F2C0-4178-92C9-D3338A9D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DF21-C6D5-40E5-BE54-C219B14DB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27F7E-A764-42B2-BAB4-8216FB70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06277-2D1B-4634-A877-63418B17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47078-D133-429F-9B28-0778556DA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8E6B6-1E83-443F-B9E4-D1BE1CC6B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DA529-1C33-4BC5-B11A-25ED62E7F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A91E8-CCAF-4FC2-A585-059E2E8E1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7F7A4-8D5A-41F5-97B7-A154BF352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FB106-9040-44B7-8DF6-715740D68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5DC4D-BB71-402A-8D35-C62EBD662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D05D3-75D9-4EFC-BEB2-D2B93EC4A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C1B2-14B4-407F-8560-AEFBD2E99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DEB03-C609-43D8-AC26-80F818E08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08928-7DB7-4979-8B8D-A32A7C9C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B5191-3370-4199-91AD-08A36A01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36156-74B1-4107-A3BB-57F4F6F8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2D883-EA99-4BDD-BC82-D345FB045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7144F-B238-48D0-B3BB-20926D2DE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0E469-6B0F-40B3-A4F3-DCABA7649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7333B-5C07-49ED-BE73-A0530AE1D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4C70E-DCF2-451B-A62E-33BB7D2AE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0C282-E5C0-4505-A5AD-558816B00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BB1E-BACB-4C39-8702-7BE2D90D3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9F5CB-E329-47FD-996C-B17E5F103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881C3-A107-4B54-9D20-EA2C3BE9E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56367-E2B6-423B-86A7-28FA54923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A6871-3D75-45B5-A6EE-632519DC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439D3-30E2-46F7-98D4-EBD9D693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29D15-B37D-4AAD-8DAF-C88FD6C0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09342-6FD4-444B-BEDB-ADD74BD05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AE696-88CC-49C9-94E2-9AF80C18E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ADB62-5BC2-4107-B93D-1CD9F2798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38C4F-C8A8-4601-9C02-3E5DD3A94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8919-ADEF-44FC-B65B-7C47E61D2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E03F3-E3C9-4711-A2AE-299BCD8CD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65918-2C65-4D8B-8B19-5E2D9429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1BF25-EBCC-4044-B137-EDB58CC24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55A08-3094-43B7-986F-7ECF19EC7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EAB6D-E6FA-4AE1-9342-53C2CA1DD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D5EF6-1353-4C03-8B4B-2D2D48EB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16E26-0605-4C90-A003-6451F08B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07644-4E24-4F90-98DD-56E3A18B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C589A-E05A-4B2A-B6EF-0F2599100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B787F-011E-4697-AC55-1657D6021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9B00-6ADA-495D-A887-52EB14B6E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16CA0-F25F-4BEA-AB8D-851563220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CE64E-1B56-4637-B138-80608498A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0C2D0-367E-47A3-9532-F5DAE7E98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9A10CF-6962-40FB-8690-25659DBCD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E31341-E445-4327-8F80-69A19A541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A9727-FFC1-45E0-9EFE-062D5B569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91FE9-5E56-43D1-8C06-506781030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6439D-B21C-47D1-9F24-B39CD676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76EBF-CFA3-4830-BDDA-326AA45D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01CBE-D878-464B-9C50-22EA1BCF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72D7-40BF-4600-B3EC-5CC5A339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591819-6810-4446-A003-93F1B89F9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E4661E-57EC-441F-A074-155E9D36E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DED18-F6A5-4037-9A79-D7D402812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2478B-A887-4665-A84A-B0AF7D8A2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6F52F-F59A-479D-8065-114B6998B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36601-0050-4067-A9BB-9CD9BACD0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6D60EF-D107-4224-94B3-53B655FC6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EE915-5874-4A1D-87F1-A2C7ADA06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7B46A0-24A7-4740-8C97-95A4705A8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57BC4E-AB2B-49DC-940B-DBA1E4D6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1153-CCBA-47C0-B92B-9F3C2D68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01E220-7312-429A-87B2-63F2CFD3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F85A2-656D-4C0A-88B3-10B33F35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13233E-4090-4C77-9B4E-EDA20BEBA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32D569-0892-47E6-B263-9482EF8A4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0E150C-2A6A-4FCB-A2A1-39C48FEB0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47CE43-5BEF-4497-B0A2-DF8C53B1A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9A55BF-6354-4349-8906-5C9E3071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913219-876C-4FF1-8363-FF69913BA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B00D49-CBCB-4B3F-9C15-FA73A3951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641DF8-B495-413F-98AB-AD1F4F7DC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110D-960E-472F-903A-DEE10E3D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92C30-F4AF-47A9-B7AD-581454ABD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0587F3-617D-4142-A5FF-8C054EA2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95D73A-5309-4BF3-89B0-930356D4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832C1D-D981-46B9-9B84-D56B0A23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E41C13-3B97-44B8-86D0-1391D31C1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1E7DD0-D0A4-49B3-8116-CEAB5E5C4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BD0AB9-9849-4D48-BC7F-31899B9FD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620815-EADA-4ACD-A489-DDD5A4E83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154EF2-ED42-44F3-867A-7405DF797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EA6EDA-5671-41BB-93B3-95054FE12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F1110-62C5-4A9F-8F96-2095F50862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353C6-581C-416D-8937-1A3417376A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Num" idx="31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E3A2D-446E-4A93-AF84-06F632C344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dt" idx="3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3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9F221-D6B5-4301-A220-C664E4E2E7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BCECA-AEAC-4B10-8052-7B9F5F4DAB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BB43F-7765-4045-AD0B-88BA822829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85815-2335-4CA3-ADA5-405BF7FE75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E6D8B-323E-4B35-815E-1BE09C2F45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CF1A-EC7A-4C5E-97AB-D31F08A287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AD0A6-4F23-4177-B20A-0AB6B4A41E4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7510E-1128-4268-AD0B-AFFF4B8D07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orestandards.org/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mwsdteam.wikispaces.com/CC+May+2012" TargetMode="External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bkresley@mwsd.cc" TargetMode="External"/><Relationship Id="rId2" Type="http://schemas.openxmlformats.org/officeDocument/2006/relationships/hyperlink" Target="http://www.corestandards.org/" TargetMode="External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345600" y="3041640"/>
            <a:ext cx="84582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46d7a"/>
                </a:solidFill>
                <a:latin typeface="Georgia"/>
              </a:rPr>
              <a:t>COMMON CORE STATE STANDARDS INITIATIVE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70c0"/>
                </a:solidFill>
                <a:uFillTx/>
                <a:latin typeface="Georgia"/>
                <a:hlinkClick r:id="rId1"/>
              </a:rPr>
              <a:t>http://www.corestandards.org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64" name="Picture 5" descr="CCSSO_full_color.jpg"/>
          <p:cNvPicPr/>
          <p:nvPr/>
        </p:nvPicPr>
        <p:blipFill>
          <a:blip r:embed="rId2"/>
          <a:stretch/>
        </p:blipFill>
        <p:spPr>
          <a:xfrm>
            <a:off x="5257800" y="228600"/>
            <a:ext cx="3637080" cy="193824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2" descr="2009 color no dates"/>
          <p:cNvPicPr/>
          <p:nvPr/>
        </p:nvPicPr>
        <p:blipFill>
          <a:blip r:embed="rId3"/>
          <a:stretch/>
        </p:blipFill>
        <p:spPr>
          <a:xfrm>
            <a:off x="457200" y="628560"/>
            <a:ext cx="387828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b9899"/>
                </a:solidFill>
                <a:latin typeface="Georgia"/>
              </a:rPr>
              <a:t>Overview of the Initiative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533520" y="182880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State-led and developed common core standards for K-12 in English/Language Arts and Mathematic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Focus on learning expectations for students, not how students get there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646b86"/>
                </a:solidFill>
                <a:latin typeface="Georgia"/>
              </a:rPr>
              <a:t>My Documen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Goals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ovide another resource for teachers to quickly 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urn to for lesson idea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ovide teachers a copy of the CCSS standard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overview for each grad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Offer suggestions for cross-curricular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ntegration of CCS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rve as an aid in future curriculum planning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3E9D0-F3EE-418D-B1D2-641051E47AD0}" type="slidenum">
              <a:rPr b="0" lang="en-US" sz="1600" spc="-1" strike="noStrike">
                <a:solidFill>
                  <a:srgbClr val="7b98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How to Use It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Slide Number Placeholder 2"/>
          <p:cNvSpPr/>
          <p:nvPr/>
        </p:nvSpPr>
        <p:spPr>
          <a:xfrm>
            <a:off x="4343400" y="1036800"/>
            <a:ext cx="4572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8EE3E-2EE8-487A-992F-39EA096E8EAB}" type="slidenum">
              <a:rPr b="0" lang="en-US" sz="1600" spc="-1" strike="noStrike">
                <a:solidFill>
                  <a:srgbClr val="7b98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4"/>
          <p:cNvSpPr/>
          <p:nvPr/>
        </p:nvSpPr>
        <p:spPr>
          <a:xfrm>
            <a:off x="304920" y="1676520"/>
            <a:ext cx="8534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copy is on the Wiki for you:  </a:t>
            </a:r>
            <a:r>
              <a:rPr b="0" lang="en-US" sz="3600" spc="-1" strike="noStrike" u="sng">
                <a:solidFill>
                  <a:srgbClr val="0070c0"/>
                </a:solidFill>
                <a:uFillTx/>
                <a:latin typeface="Arial"/>
                <a:hlinkClick r:id="rId1"/>
              </a:rPr>
              <a:t>http://mwsdteam.wikispaces.com/CC+May+20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t’s take a quick look now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b9899"/>
                </a:solidFill>
                <a:latin typeface="Georgia"/>
              </a:rPr>
              <a:t>More Information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51920" y="1828440"/>
            <a:ext cx="8991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Georgia"/>
                <a:hlinkClick r:id="rId1"/>
              </a:rPr>
              <a:t>bkresley@mwsd.cc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isit: 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Georgia"/>
                <a:hlinkClick r:id="rId2"/>
              </a:rPr>
              <a:t>www.corestandards.org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gn up for Common Core State Standards updates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www.ccsso.org/whats_new/newsletters/commoncoreupdates.html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2T18:26:18Z</dcterms:created>
  <dc:creator>John Tanner</dc:creator>
  <dc:description/>
  <dc:language>en-US</dc:language>
  <cp:lastModifiedBy>bkresley</cp:lastModifiedBy>
  <dcterms:modified xsi:type="dcterms:W3CDTF">2012-05-23T21:26:24Z</dcterms:modified>
  <cp:revision>21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Document</vt:lpwstr>
  </property>
  <property fmtid="{D5CDD505-2E9C-101B-9397-08002B2CF9AE}" pid="6" name="ContentTypeId">
    <vt:lpwstr>0x010100FFDA35C05573214090F9F4460B59C365</vt:lpwstr>
  </property>
  <property fmtid="{D5CDD505-2E9C-101B-9397-08002B2CF9AE}" pid="7" name="Document Type">
    <vt:lpwstr>Designs</vt:lpwstr>
  </property>
  <property fmtid="{D5CDD505-2E9C-101B-9397-08002B2CF9AE}" pid="8" name="Folders">
    <vt:lpwstr>31</vt:lpwstr>
  </property>
  <property fmtid="{D5CDD505-2E9C-101B-9397-08002B2CF9AE}" pid="9" name="Keyword">
    <vt:lpwstr/>
  </property>
  <property fmtid="{D5CDD505-2E9C-101B-9397-08002B2CF9AE}" pid="10" name="Keywords">
    <vt:lpwstr/>
  </property>
  <property fmtid="{D5CDD505-2E9C-101B-9397-08002B2CF9AE}" pid="11" name="Slides">
    <vt:lpwstr>13</vt:lpwstr>
  </property>
  <property fmtid="{D5CDD505-2E9C-101B-9397-08002B2CF9AE}" pid="12" name="Subfolder">
    <vt:lpwstr>50</vt:lpwstr>
  </property>
  <property fmtid="{D5CDD505-2E9C-101B-9397-08002B2CF9AE}" pid="13" name="Subject">
    <vt:lpwstr/>
  </property>
  <property fmtid="{D5CDD505-2E9C-101B-9397-08002B2CF9AE}" pid="14" name="_Author">
    <vt:lpwstr>John Tanner</vt:lpwstr>
  </property>
  <property fmtid="{D5CDD505-2E9C-101B-9397-08002B2CF9AE}" pid="15" name="_Category">
    <vt:lpwstr/>
  </property>
  <property fmtid="{D5CDD505-2E9C-101B-9397-08002B2CF9AE}" pid="16" name="_Comments">
    <vt:lpwstr/>
  </property>
</Properties>
</file>